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9A4-74F3-46F2-A11D-B7CA8F77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D3F-9F30-46C7-A286-482B762F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C32-DEFE-49A5-81C1-37AC83C3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BC2-E6D1-4243-A090-D70F688A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188-DB40-430B-A2B0-7CB12F86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1DF-4D66-4E3A-A159-A3ED98BD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504-C104-4268-87AD-CDE89355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640-0825-4733-8803-D6B7EEFC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F9D-B354-4447-AA45-E2787221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81B-A81E-442A-B611-BDA1DAFD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15C-944F-4EFF-AB40-A5301508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471-7BD4-411C-B80B-ECAC9340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FF50-6AD5-43F6-A02A-52ABD9C63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4600"/>
            </a:b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Holidays are a pleasant time when people gather together to celebrate.  How can we contribute to a celebration?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16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day we will read about a holiday celebration.  We will read about what a group of animals does on Thanksgiving day.  What do you usually do on Thanksgiv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686800" cy="731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6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day we will read about Chinese New Year.  Everyone in the family contributes to the celebration.  How have you contributed to your family celebra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9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e can read books when we want to learn something new.  What other ways can we learn about thing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686800" cy="739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3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s week we read about many celebrations.  Thanksgiving, Chinese New Year, and birthdays are all things to celebrate.  How can we add to a celebratio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11:12Z</dcterms:created>
  <dc:creator> </dc:creator>
  <dc:description/>
  <dc:language>en-US</dc:language>
  <cp:lastModifiedBy>teacher</cp:lastModifiedBy>
  <dcterms:modified xsi:type="dcterms:W3CDTF">2010-10-14T20:09:49Z</dcterms:modified>
  <cp:revision>43</cp:revision>
  <dc:subject/>
  <dc:title> Morning Warm- Up! The cat needs some water.  The dog wants a bone.  That bird lives in a birdhouse where she feels quite at home.  How do people take care of pets?</dc:title>
</cp:coreProperties>
</file>